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2DF3-FB61-4455-91B3-4CD2C4F0D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CD62-01A0-4ED3-BAB0-94E01294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B826D6-9E8C-4770-AF14-2B9CCC49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E9DA791-BCFF-46B1-A71B-12EDEAF9A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3E3A49-7E1F-4A3D-A08D-AB339EE16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05DFCBD-2D4E-4C5A-A537-3B34301D5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B048BE-6A6B-4181-9D5C-DAB1AE188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912407-4BD8-4787-A2A2-269FBEEE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BA9859-38F1-479C-A8C1-1DA61E02D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79BAA7-7E26-4E2B-B0D7-343BF03FE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604932-6D2B-423F-94D5-C961E7C1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FD751B-AF5B-4974-913D-55EFD8260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B2A8-83C3-4CC6-ABA4-C1A0CFFB8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DD913D3-CAD9-40DD-B873-E437E4B3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5BFE395-3353-4FED-BBE9-6AFC07F97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FCF4BC9-F629-4643-92BC-4047C6AA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9F4E5C0-063E-469E-8C9C-7DE580BC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1F286C4-7B24-433C-B29D-6B18F0141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462C6F-883E-4C32-B98E-A0A595FBB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962C809-FE9C-4D42-8166-FC6200BE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D9328E5-271B-4C2B-A13C-4E8AB8FA1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52FA678-A95E-4CC8-A9E9-33A15D23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35438F-48E9-49DB-92BD-E24DFF9CC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8A6-1D1B-46A5-91CD-EB43CD26A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014BC82-D9B2-473A-823D-287A3E01D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275177-AFA6-4086-A2AC-DA7630D7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0A229E-A796-436C-954E-AD2943ECB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516011-5D50-4B0C-B2D9-155635587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9ECDF-792F-400C-8BE6-0FB939E84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3AE2C9-0F58-490F-AC05-49D31FA25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012CBE-0C01-4F72-B09C-44077910D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C2D737-41C8-4277-BAD5-7623BE05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2D9AB-6189-4EF5-94B2-370B4862C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146686-A91F-43B7-B89D-E6C9E45F3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7E5C4-2B8D-4604-9BB7-50CE84F17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BB2B5-B913-420A-BE8F-43802780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430AC-29D9-46EE-A4D4-6620BC6A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355C8E-1BD5-4B5D-88BF-CD9F9675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12DD89-F555-4852-8CC4-743902114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DEC34A-8830-440A-A286-758473ED6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BE407-01C8-4F86-8695-C2322F9A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26331A-F16A-4789-B90D-9511F7FA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93FEB3-8E7D-464E-A016-39FA0D1C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13A285-FB7C-4C26-A7A0-F05A7C843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5902DF-CA67-48D7-8FC8-6B370417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90622-4A23-4597-ADC7-4B99BB31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5197D-D56F-45C3-89B9-5AF7736C3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CB6A6A-9369-48E0-AEF7-B7B7A5AA9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3E373C-4309-4DB5-AF4B-815E82F83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D49E8C-A04E-49EC-8A77-7936432D1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39CA85-6916-4C3D-BB6B-F2F76687A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AC0F92-549A-440A-B53B-292EFE208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79E3D9-AC7A-4429-B77C-05CF93D6A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FC721B-990E-4974-98BD-BF0481D7D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FAC785-F2AB-45CA-AA28-9AD646BE0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6CFD7-1F9B-4A43-920B-6CD742A86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04CE8-61DA-4399-A2C5-F9A9BF253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77B684-6F1D-45BA-9E91-C830AE45F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52C22C-A109-4D25-9A2B-3542A6CF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715781-51EB-454D-9C52-9D3259E5D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5DFCFB-527F-4A6F-9354-6AEBDC4A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7528C6-F226-468D-A1C9-49E3DF28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706814-3B1D-4191-923F-F5E7CAD8D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CE4EC7-2785-42D8-A849-3955FB395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A59130-09F3-482C-8BC9-D3ABA4348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A55EBE-7E25-40EE-ACC3-8E74A4F60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D005F6-9450-41E7-821F-DA62F5904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A7B42-72CB-48D2-8846-BD0819BE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287B5E8-654C-4F6C-8F6C-659768F1F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20613D-8060-4F53-B6BC-E8E95A41E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DEC69B-57A5-43F7-BEB1-C80F048A2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6F7087C-3756-403A-A2C9-7415AF0AC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00D7F-9615-4C4D-AEC0-1281AEB2C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289A29F-7DF3-4B8E-B865-256AFAFF3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641F8B-C84A-47CB-A23E-FBE46C7A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8BCF07-923D-46B8-808F-5E31AFCF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319E2-72E4-4C83-933C-9CEF80834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A10E16-B5BF-4305-B397-CEDD47972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1E53B-FB81-47F1-8988-2BD0842B4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60A306-02F8-49BB-B575-211DBD128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A981DC-7081-4947-9C1D-36EF47A9A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321255-2297-4CA2-98E6-FC91207C6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F8862A-61D0-41FD-946C-E7AD6C2D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868990-45C0-4641-A8A8-08F711F7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F2CB40-369E-4725-8253-914B209E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75BB29D-9520-4A41-8EF5-99E7BBB2C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AFDECDC-9CDD-436E-B60F-84D55C1F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5BB930-B9D7-4556-A910-D5A73378B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C254A02-0982-412B-9FE1-0E2F6A964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FA34-FCCA-4F0B-92D8-3E3505A72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BA4FB-3E8B-4D2F-B822-E1857C5A5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9A3B80C-180B-4467-9B03-05A8B97FD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4622C8-192C-44FF-A8DF-7489543C8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42A016-7E53-4BD8-9363-68DF7DAEB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13262-B6F3-41A1-AA15-CE76D819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2FEECB-3DDB-48C5-BF71-E50CE7F6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5E4BB3-40F4-4B28-BAD3-39E540B5A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001D4-A678-499B-8411-DC1DEA64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E2131C-ACE0-4D50-B2F1-ED392A2C8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B3859-08EB-40FA-BA22-0B95FD1F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FD898-1FD5-4980-A3F8-9F96B7548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9D0885-95F4-4F7E-85C8-C4EA840D7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D44614-D3AF-436B-A904-7251B3456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940C35-5DEC-47B5-8E1F-E6486A62A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B7AAD-00E3-4A9B-A36D-1997250A5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173A22-D4C3-4666-9D42-07889FCF8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BB5FEA9-7C15-496A-BE7E-6636B60C9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B85AA28-7858-4362-A3B3-B3149B394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AF1236-863F-4918-89CB-26F18FD64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57C14A-E9E9-4DC9-8CDC-F3B809F44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93A5D6A-CAFE-4B11-9E3A-377CDE8C6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B1674-5C0C-4A04-B50F-FC4D37DD0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712B-BA33-4318-BADC-5309E4EC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B59978-DC3F-44A0-8EF8-41458991C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31B5FE-8F35-47BB-8BC0-3E87B5D71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29E53-E8B1-45CD-AD40-556E8916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6A412B-5B22-4A99-9DE4-63E0EF29D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80A572-958E-4230-83D6-1BD8B5651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E6A4C6-7E3A-42D6-ABF4-E21D93C39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EB9E5A-C352-449C-9788-FF19517D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102D0C6-C935-4901-BBC5-6F9B743FE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A6829E-6D8A-4D1D-8CDC-732851C7F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601CD2-2F27-4583-AAAD-2B8EF96A9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474F9-BAF3-4B85-969C-8E3EEDD44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494E3E-090D-4286-8DA9-574C6FCEC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2EC275-C668-48F0-A7F2-4E4C952D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5F3383-76A2-414C-A99C-45570FF73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A4A64BD-536D-4ADF-BB36-03727813E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ADA119-EBCD-47F8-9995-876467A19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E165FC5-3210-4C09-95D6-CA6217978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A756BFF-1493-45EE-BC6F-25BE62F14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71B03-62F9-416F-93AE-F1B7A70D3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CB245-A0CF-47CC-A56F-2A89A21B9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0BD2-07BE-48F1-8342-5150E8F5D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F94D2-078A-4B3D-8E76-830B19CFF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319829-34CE-48F8-AC1B-A8EAF0247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694A7-151B-48C7-A46C-9E8EC408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9D2A9-9693-4A1C-8076-BDBCCA34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496896-C6A1-4FDC-B24D-BAA094598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5C3B-3910-42C3-83B0-6C82C078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56A89-E2AE-4FC9-BBA4-D696E0FE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093C2-0AD0-47E2-8A34-3DC11438F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B86B79-0A6D-4BEA-A613-51F970CEB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5EAB3-92B3-48DA-B553-C51BFE075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588EC-7577-40F0-BB2D-8188D5E43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029140-EC5B-4688-BB30-FD2FB485E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47D2A-503F-456F-94A8-96793052C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D0FDD0-01CD-4B2E-B0FB-AEA0B031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DBC34-2C3F-4A26-BDAC-9D56EBFA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F8C9C9-DC70-48DB-A5A0-2CF8072E5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FE0A-ECFB-4955-8BAB-3C21EF030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A0C84B-AB7D-4375-8610-FB90B7983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5012C-87CB-4DEA-900C-C369C7E87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D34C97-BDEB-4C33-985F-ADFA8E7D6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71179-3550-4C72-A80F-BFC8A23B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784CC1-960D-4154-A314-E516CF839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4607A-8529-4838-A1B3-E2C30956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3C3B5-12A7-44EF-9740-8AEC5BA37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DAC0C8-C707-4B90-A6EF-18CD4E65D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CE00E-4ECE-447F-B5D1-E4502ED6A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C35871-F668-4586-8347-A7885A817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C8CAD-B5B0-435A-8BEC-997E089D3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DE9DD6-8084-49BC-ADD4-71FB8114A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D4F7AB-E8AD-47C0-9890-E926B40B4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C0AB40-7025-4862-B86B-FE8955665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BC5D72-5C67-455F-95D3-5BB2DE71D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4BE65C-E799-4237-8436-60D7AA19B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A7071-800A-4BD2-B4D6-66DBC2BC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4F5D9C-2094-4F42-8B6F-AADA1EA97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5CFCE9-5B13-4E7F-9751-C286363C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AA40E3-D1D2-4AB8-AEF1-22D8D58AA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A5A21-79CA-4F1C-BBE3-E40A65FAB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5B003-931C-4C15-B865-5A11DEF55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35BAF4-C306-457F-B24C-AAE4DE8D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1828B-96BF-4B7F-941E-027E5F824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59B10E-0E97-4D09-A0B6-D231E4EA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20CB69-64C5-4422-94E2-C4695EC01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8AAC76-162F-42D4-A091-A43ADE710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301774-BB36-4F75-AC91-8465A9EA1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18F322-8F72-4A36-B05F-7CE0F5F5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ACB6C-87E5-4757-A1A2-5056683A0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EDB661-57AA-4AFD-873F-FF71CC324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D2B88E-B514-4CF7-9163-C6EBCD3A5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F8E7-DD20-48A7-AA4C-093C4D6F5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82D311-14C7-4385-A3E4-D56BF573A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8A3B86-BDBA-4E92-9010-B7DB2022B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9EC2F-707A-4DD2-9294-04811B88B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729D7C-7F6A-4E4F-A242-062FE238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664E74-F6C9-4C90-83B5-868B69A7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EBCAD3-A3F2-4C42-8932-308D8C93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F2C07-1385-4704-8EA6-B4AEEDE9B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FB8276-0BFF-4B80-A6A2-A0D0E732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DE9709-3F16-47BE-A06D-4DA01D644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6ECF3C-DEBB-4585-93A7-15297E803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6EF1-1C22-48A4-980B-CD4848D6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C48C2-46FA-43E1-9BF5-CAF20DB8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30E9AA-E0EA-4014-8C4A-1738F813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03D924-2027-4168-A17A-F17425ECC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46D1AC-C801-4C1D-B06D-22772C2F4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5E587F-5A15-413E-B831-2E90788B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A59B7-AC75-42AF-B45C-03193F4F4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FAC664-A95D-4F56-9275-FA1047F6F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AAF0BA-764F-40BF-B2F6-E89FA34D7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967AC7-70CD-4277-9A37-8F3FA44E9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151D7-6460-448B-B04F-FC017387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2A01-D2B3-4A01-BA57-7414499A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C072A4-375A-49E2-A3D6-61F46014E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05685D-3BD3-4945-B0D9-F496FAA19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119B3-45DE-4981-94D2-9DE7A1DB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D81B1-0D74-4B1B-9332-CD2CAE372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AED4B7-0DAE-4DBB-B462-5121A28A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531FF-1DD9-4B4F-8DBA-39AE47717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3C9431-50D2-47E8-98B8-884D4C2D9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2FC3FB-73E7-4689-8F41-A49229BF5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11A336-BAC3-4D5E-81AB-5FB3C5A27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765554-03E9-47BC-8363-A92557854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93.xml"/><Relationship Id="rId8" Type="http://schemas.openxmlformats.org/officeDocument/2006/relationships/slideLayout" Target="../slideLayouts/slideLayout194.xml"/><Relationship Id="rId9" Type="http://schemas.openxmlformats.org/officeDocument/2006/relationships/slideLayout" Target="../slideLayouts/slideLayout195.xml"/><Relationship Id="rId10" Type="http://schemas.openxmlformats.org/officeDocument/2006/relationships/slideLayout" Target="../slideLayouts/slideLayout196.xml"/><Relationship Id="rId11" Type="http://schemas.openxmlformats.org/officeDocument/2006/relationships/slideLayout" Target="../slideLayouts/slideLayout197.xml"/><Relationship Id="rId12" Type="http://schemas.openxmlformats.org/officeDocument/2006/relationships/slideLayout" Target="../slideLayouts/slideLayout198.xml"/><Relationship Id="rId13" Type="http://schemas.openxmlformats.org/officeDocument/2006/relationships/slideLayout" Target="../slideLayouts/slideLayout199.xml"/><Relationship Id="rId14" Type="http://schemas.openxmlformats.org/officeDocument/2006/relationships/slideLayout" Target="../slideLayouts/slideLayout200.xml"/><Relationship Id="rId15" Type="http://schemas.openxmlformats.org/officeDocument/2006/relationships/slideLayout" Target="../slideLayouts/slideLayout201.xml"/><Relationship Id="rId16" Type="http://schemas.openxmlformats.org/officeDocument/2006/relationships/slideLayout" Target="../slideLayouts/slideLayout202.xml"/><Relationship Id="rId17" Type="http://schemas.openxmlformats.org/officeDocument/2006/relationships/slideLayout" Target="../slideLayouts/slideLayout203.xml"/><Relationship Id="rId18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49.xml"/><Relationship Id="rId35" Type="http://schemas.openxmlformats.org/officeDocument/2006/relationships/slideLayout" Target="../slideLayouts/slideLayout50.xml"/><Relationship Id="rId36" Type="http://schemas.openxmlformats.org/officeDocument/2006/relationships/slideLayout" Target="../slideLayouts/slideLayout51.xml"/><Relationship Id="rId37" Type="http://schemas.openxmlformats.org/officeDocument/2006/relationships/slideLayout" Target="../slideLayouts/slideLayout52.xml"/><Relationship Id="rId38" Type="http://schemas.openxmlformats.org/officeDocument/2006/relationships/slideLayout" Target="../slideLayouts/slideLayout53.xml"/><Relationship Id="rId39" Type="http://schemas.openxmlformats.org/officeDocument/2006/relationships/slideLayout" Target="../slideLayouts/slideLayout54.xml"/><Relationship Id="rId40" Type="http://schemas.openxmlformats.org/officeDocument/2006/relationships/slideLayout" Target="../slideLayouts/slideLayout55.xml"/><Relationship Id="rId41" Type="http://schemas.openxmlformats.org/officeDocument/2006/relationships/slideLayout" Target="../slideLayouts/slideLayout56.xml"/><Relationship Id="rId42" Type="http://schemas.openxmlformats.org/officeDocument/2006/relationships/slideLayout" Target="../slideLayouts/slideLayout57.xml"/><Relationship Id="rId43" Type="http://schemas.openxmlformats.org/officeDocument/2006/relationships/slideLayout" Target="../slideLayouts/slideLayout58.xml"/><Relationship Id="rId44" Type="http://schemas.openxmlformats.org/officeDocument/2006/relationships/slideLayout" Target="../slideLayouts/slideLayout59.xml"/><Relationship Id="rId4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61.xml"/><Relationship Id="rId32" Type="http://schemas.openxmlformats.org/officeDocument/2006/relationships/slideLayout" Target="../slideLayouts/slideLayout62.xml"/><Relationship Id="rId33" Type="http://schemas.openxmlformats.org/officeDocument/2006/relationships/slideLayout" Target="../slideLayouts/slideLayout63.xml"/><Relationship Id="rId34" Type="http://schemas.openxmlformats.org/officeDocument/2006/relationships/slideLayout" Target="../slideLayouts/slideLayout64.xml"/><Relationship Id="rId35" Type="http://schemas.openxmlformats.org/officeDocument/2006/relationships/slideLayout" Target="../slideLayouts/slideLayout65.xml"/><Relationship Id="rId36" Type="http://schemas.openxmlformats.org/officeDocument/2006/relationships/slideLayout" Target="../slideLayouts/slideLayout66.xml"/><Relationship Id="rId37" Type="http://schemas.openxmlformats.org/officeDocument/2006/relationships/slideLayout" Target="../slideLayouts/slideLayout67.xml"/><Relationship Id="rId38" Type="http://schemas.openxmlformats.org/officeDocument/2006/relationships/slideLayout" Target="../slideLayouts/slideLayout68.xml"/><Relationship Id="rId39" Type="http://schemas.openxmlformats.org/officeDocument/2006/relationships/slideLayout" Target="../slideLayouts/slideLayout69.xml"/><Relationship Id="rId40" Type="http://schemas.openxmlformats.org/officeDocument/2006/relationships/slideLayout" Target="../slideLayouts/slideLayout70.xml"/><Relationship Id="rId41" Type="http://schemas.openxmlformats.org/officeDocument/2006/relationships/slideLayout" Target="../slideLayouts/slideLayout71.xml"/><Relationship Id="rId4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1A04-1E37-4BBF-AC8E-5F194A1650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1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188b0"/>
                </a:gs>
                <a:gs pos="100000">
                  <a:srgbClr val="4c3d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23e51"/>
                </a:gs>
                <a:gs pos="100000">
                  <a:srgbClr val="918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3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43d78"/>
              </a:gs>
              <a:gs pos="100000">
                <a:srgbClr val="918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25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d548f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6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27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632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b3d80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63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E9115-8D4C-4F9D-8679-FD6896A5B4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de0d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de0dc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68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A443-69D7-4714-A079-31015AFAC17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73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D8798-1750-4CA9-B364-4BCD0DF3A24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8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79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C4A23-8AA1-41A5-9E80-F72059847D91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2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823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5" name="PlaceHolder 1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6C25C-9FA8-472B-A741-3D72365A28F2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6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867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B3969-7A81-46AF-8BF9-64BAEC8516BE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1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912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9B11F-4305-4583-80C9-A2F5DD89950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95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9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99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4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E29DF-E06F-462E-989D-3B85018F22B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7"/>
    <p:sldLayoutId id="2147483858" r:id="rId8"/>
    <p:sldLayoutId id="2147483859" r:id="rId9"/>
    <p:sldLayoutId id="2147483860" r:id="rId10"/>
    <p:sldLayoutId id="2147483861" r:id="rId11"/>
    <p:sldLayoutId id="2147483862" r:id="rId12"/>
    <p:sldLayoutId id="2147483863" r:id="rId13"/>
    <p:sldLayoutId id="2147483864" r:id="rId14"/>
    <p:sldLayoutId id="2147483865" r:id="rId15"/>
    <p:sldLayoutId id="2147483866" r:id="rId16"/>
    <p:sldLayoutId id="2147483867" r:id="rId17"/>
    <p:sldLayoutId id="2147483868" r:id="rId18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037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3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074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 type="dt" idx="5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BE374-BE00-4B6F-B749-C730599FCF6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0016B-ECD1-46EB-9B42-90D7FEB6AB04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5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56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605C2-8B07-4D48-A90F-EC05D3BADA2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2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213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75BF4-7176-4D5B-B75D-B04F05596D0F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270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3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274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275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79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285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7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8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0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1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2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93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94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5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6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8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9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1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2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3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4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5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6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7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8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9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0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1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2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313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13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14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15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94404-B57B-4EB0-BA14-A5CA2DDE0F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4"/>
    <p:sldLayoutId id="2147483702" r:id="rId35"/>
    <p:sldLayoutId id="2147483703" r:id="rId36"/>
    <p:sldLayoutId id="2147483704" r:id="rId37"/>
    <p:sldLayoutId id="2147483705" r:id="rId38"/>
    <p:sldLayoutId id="2147483706" r:id="rId39"/>
    <p:sldLayoutId id="2147483707" r:id="rId40"/>
    <p:sldLayoutId id="2147483708" r:id="rId41"/>
    <p:sldLayoutId id="2147483709" r:id="rId42"/>
    <p:sldLayoutId id="2147483710" r:id="rId43"/>
    <p:sldLayoutId id="2147483711" r:id="rId44"/>
    <p:sldLayoutId id="2147483712" r:id="rId4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366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69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370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371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372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373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5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6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7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8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381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2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3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4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5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6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7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389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390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1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2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3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4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6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7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8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9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0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1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2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3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4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5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6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7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8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09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dt" idx="16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ftr" idx="17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sldNum" idx="18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B108B-1FA4-4702-BE33-C985C6F062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1"/>
    <p:sldLayoutId id="2147483715" r:id="rId32"/>
    <p:sldLayoutId id="2147483716" r:id="rId33"/>
    <p:sldLayoutId id="2147483717" r:id="rId34"/>
    <p:sldLayoutId id="2147483718" r:id="rId35"/>
    <p:sldLayoutId id="2147483719" r:id="rId36"/>
    <p:sldLayoutId id="2147483720" r:id="rId37"/>
    <p:sldLayoutId id="2147483721" r:id="rId38"/>
    <p:sldLayoutId id="2147483722" r:id="rId39"/>
    <p:sldLayoutId id="2147483723" r:id="rId40"/>
    <p:sldLayoutId id="2147483724" r:id="rId41"/>
    <p:sldLayoutId id="2147483725" r:id="rId4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6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74B64-0B2D-4E6C-8CFE-337480BBDE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ACAF-6B77-4309-8710-021D64488C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60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188b0"/>
                </a:gs>
                <a:gs pos="100000">
                  <a:srgbClr val="4c3d7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23e51"/>
                </a:gs>
                <a:gs pos="100000">
                  <a:srgbClr val="9188b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743d78"/>
              </a:gs>
              <a:gs pos="100000">
                <a:srgbClr val="9188b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64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7d548f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65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66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3d005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1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6b3d80"/>
                </a:gs>
                <a:gs pos="100000">
                  <a:srgbClr val="3d005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3d005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de0d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de0d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4EE4-3BEE-496F-ADBF-C083B1E77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6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0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Применение пестицидов ведет к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Росту урожайности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Увеличению производительности труда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Verdana"/>
              </a:rPr>
              <a:t>Рентабельности сельскохозяйственного производства</a:t>
            </a:r>
            <a:endParaRPr b="0" lang="en-US" sz="23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 spd="med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Отрицательные последствия применения пестицидов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Гибель диких животных при обработке полей пестицидам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Массовое размножение вредителей после применения пестицидов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Появление вредителей, устойчивых к пестицидам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 spd="med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естициды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pSp>
        <p:nvGrpSpPr>
          <p:cNvPr id="1121" name=""/>
          <p:cNvGrpSpPr/>
          <p:nvPr/>
        </p:nvGrpSpPr>
        <p:grpSpPr>
          <a:xfrm>
            <a:off x="431640" y="1585800"/>
            <a:ext cx="8209080" cy="4462560"/>
            <a:chOff x="431640" y="1585800"/>
            <a:chExt cx="8209080" cy="4462560"/>
          </a:xfrm>
        </p:grpSpPr>
        <p:cxnSp>
          <p:nvCxnSpPr>
            <p:cNvPr id="1122" name="_s60443"/>
            <p:cNvCxnSpPr>
              <a:stCxn id="1123" idx="0"/>
              <a:endCxn id="1124" idx="2"/>
            </p:cNvCxnSpPr>
            <p:nvPr/>
          </p:nvCxnSpPr>
          <p:spPr>
            <a:xfrm flipV="1" rot="16200000">
              <a:off x="5841000" y="2063880"/>
              <a:ext cx="893160" cy="35049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5" name="_s60441"/>
            <p:cNvCxnSpPr>
              <a:stCxn id="1126" idx="0"/>
              <a:endCxn id="1124" idx="2"/>
            </p:cNvCxnSpPr>
            <p:nvPr/>
          </p:nvCxnSpPr>
          <p:spPr>
            <a:xfrm flipV="1" rot="16200000">
              <a:off x="5141520" y="2763360"/>
              <a:ext cx="893160" cy="21060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7" name="_s60439"/>
            <p:cNvCxnSpPr>
              <a:stCxn id="1128" idx="0"/>
              <a:endCxn id="1124" idx="2"/>
            </p:cNvCxnSpPr>
            <p:nvPr/>
          </p:nvCxnSpPr>
          <p:spPr>
            <a:xfrm flipV="1" rot="16200000">
              <a:off x="4440600" y="3464280"/>
              <a:ext cx="893160" cy="7041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29" name="_s60437"/>
            <p:cNvCxnSpPr>
              <a:stCxn id="1130" idx="0"/>
              <a:endCxn id="1124" idx="2"/>
            </p:cNvCxnSpPr>
            <p:nvPr/>
          </p:nvCxnSpPr>
          <p:spPr>
            <a:xfrm flipH="1" flipV="1" rot="5400000">
              <a:off x="3739680" y="3467160"/>
              <a:ext cx="893160" cy="698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1" name="_s60435"/>
            <p:cNvCxnSpPr>
              <a:stCxn id="1132" idx="0"/>
              <a:endCxn id="1124" idx="2"/>
            </p:cNvCxnSpPr>
            <p:nvPr/>
          </p:nvCxnSpPr>
          <p:spPr>
            <a:xfrm flipH="1" flipV="1" rot="5400000">
              <a:off x="3038760" y="2766240"/>
              <a:ext cx="893160" cy="210060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3" name="_s60433"/>
            <p:cNvCxnSpPr>
              <a:stCxn id="1134" idx="0"/>
              <a:endCxn id="1124" idx="2"/>
            </p:cNvCxnSpPr>
            <p:nvPr/>
          </p:nvCxnSpPr>
          <p:spPr>
            <a:xfrm flipH="1" flipV="1" rot="5400000">
              <a:off x="2338200" y="2065320"/>
              <a:ext cx="893160" cy="350244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4" name="_s60431"/>
            <p:cNvSpPr/>
            <p:nvPr/>
          </p:nvSpPr>
          <p:spPr>
            <a:xfrm>
              <a:off x="3934800" y="158580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етоды борьбы с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вредителям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_s60432"/>
            <p:cNvSpPr/>
            <p:nvPr/>
          </p:nvSpPr>
          <p:spPr>
            <a:xfrm>
              <a:off x="431640" y="426348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карантинны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_s60434"/>
            <p:cNvSpPr/>
            <p:nvPr/>
          </p:nvSpPr>
          <p:spPr>
            <a:xfrm>
              <a:off x="1833120" y="426348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елекционны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_s60436"/>
            <p:cNvSpPr/>
            <p:nvPr/>
          </p:nvSpPr>
          <p:spPr>
            <a:xfrm>
              <a:off x="3234960" y="426348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агротехнически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_s60438"/>
            <p:cNvSpPr/>
            <p:nvPr/>
          </p:nvSpPr>
          <p:spPr>
            <a:xfrm>
              <a:off x="4636800" y="426348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химически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_s60440"/>
            <p:cNvSpPr/>
            <p:nvPr/>
          </p:nvSpPr>
          <p:spPr>
            <a:xfrm>
              <a:off x="6038640" y="4263480"/>
              <a:ext cx="1201320" cy="1784880"/>
            </a:xfrm>
            <a:custGeom>
              <a:avLst/>
              <a:gdLst>
                <a:gd name="textAreaLeft" fmla="*/ 58320 w 1201320"/>
                <a:gd name="textAreaRight" fmla="*/ 1143000 w 120132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089">
                  <a:moveTo>
                    <a:pt x="3600" y="0"/>
                  </a:moveTo>
                  <a:arcTo wR="3600" hR="3600" stAng="16200000" swAng="-5400000"/>
                  <a:lnTo>
                    <a:pt x="0" y="28489"/>
                  </a:lnTo>
                  <a:arcTo wR="3600" hR="3600" stAng="10800000" swAng="-5400000"/>
                  <a:lnTo>
                    <a:pt x="18000" y="32089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физически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_s60442"/>
            <p:cNvSpPr/>
            <p:nvPr/>
          </p:nvSpPr>
          <p:spPr>
            <a:xfrm>
              <a:off x="7440480" y="4263480"/>
              <a:ext cx="1200240" cy="1784880"/>
            </a:xfrm>
            <a:custGeom>
              <a:avLst/>
              <a:gdLst>
                <a:gd name="textAreaLeft" fmla="*/ 58320 w 1200240"/>
                <a:gd name="textAreaRight" fmla="*/ 1141920 w 1200240"/>
                <a:gd name="textAreaTop" fmla="*/ 58320 h 1784880"/>
                <a:gd name="textAreaBottom" fmla="*/ 1726560 h 1784880"/>
              </a:gdLst>
              <a:ahLst/>
              <a:rect l="textAreaLeft" t="textAreaTop" r="textAreaRight" b="textAreaBottom"/>
              <a:pathLst>
                <a:path w="21600" h="32118">
                  <a:moveTo>
                    <a:pt x="3600" y="0"/>
                  </a:moveTo>
                  <a:arcTo wR="3600" hR="3600" stAng="16200000" swAng="-5400000"/>
                  <a:lnTo>
                    <a:pt x="0" y="28518"/>
                  </a:lnTo>
                  <a:arcTo wR="3600" hR="3600" stAng="10800000" swAng="-5400000"/>
                  <a:lnTo>
                    <a:pt x="18000" y="3211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3399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биологически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Карантинный метод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Включает комплекс мер, позволяющих предупредить распространение наиболее опасных вредителей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  <p:graphicFrame>
        <p:nvGraphicFramePr>
          <p:cNvPr id="1137" name=""/>
          <p:cNvGraphicFramePr/>
          <p:nvPr/>
        </p:nvGraphicFramePr>
        <p:xfrm>
          <a:off x="0" y="3941640"/>
          <a:ext cx="3973680" cy="218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941640"/>
                    <a:ext cx="3973680" cy="21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Селекционный метод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остоит в выведении сортов растений и пород животных, устойчивых к болезням и вредным насекомы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heel spokes="8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23e51"/>
            </a:gs>
            <a:gs pos="100000">
              <a:srgbClr val="9188b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de0dc"/>
                </a:solidFill>
                <a:latin typeface="Arial"/>
              </a:rPr>
              <a:t>Агротехнический метод</a:t>
            </a:r>
            <a:endParaRPr b="0" lang="en-US" sz="5400" spc="-1" strike="noStrike">
              <a:solidFill>
                <a:srgbClr val="dde0dc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ключает приемы обработки почвы, введение севооборотов, соблюдение срока посевов и технологии убор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Химический метод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меняется ультрамалообъемное опрыскивание, позволяющее уменьшить расход препарата во много раз при той же эффективност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cover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Физический метод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В борьбе с ночными насекомыми применяют оптические ловушки, представляющие собой лампы накаливания или ультрафиолетовые лампы. Ультразвук оказывает подавляющее действие на микробов, отпугивает грызунов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med">
    <p:strips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7" name=""/>
          <p:cNvGrpSpPr/>
          <p:nvPr/>
        </p:nvGrpSpPr>
        <p:grpSpPr>
          <a:xfrm>
            <a:off x="2339280" y="788760"/>
            <a:ext cx="5333040" cy="4622400"/>
            <a:chOff x="2339280" y="788760"/>
            <a:chExt cx="5333040" cy="4622400"/>
          </a:xfrm>
        </p:grpSpPr>
        <p:sp>
          <p:nvSpPr>
            <p:cNvPr id="1148" name="_s239624"/>
            <p:cNvSpPr/>
            <p:nvPr/>
          </p:nvSpPr>
          <p:spPr>
            <a:xfrm flipV="1">
              <a:off x="4560840" y="788400"/>
              <a:ext cx="889920" cy="770040"/>
            </a:xfrm>
            <a:custGeom>
              <a:avLst/>
              <a:gdLst>
                <a:gd name="textAreaLeft" fmla="*/ 319320 w 889920"/>
                <a:gd name="textAreaRight" fmla="*/ 570600 w 889920"/>
                <a:gd name="textAreaTop" fmla="*/ 276120 h 770040"/>
                <a:gd name="textAreaBottom" fmla="*/ 493920 h 7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_s239625"/>
            <p:cNvSpPr/>
            <p:nvPr/>
          </p:nvSpPr>
          <p:spPr>
            <a:xfrm flipV="1">
              <a:off x="4116600" y="1559160"/>
              <a:ext cx="1778400" cy="769680"/>
            </a:xfrm>
            <a:custGeom>
              <a:avLst/>
              <a:gdLst>
                <a:gd name="textAreaLeft" fmla="*/ 390960 w 1778400"/>
                <a:gd name="textAreaRight" fmla="*/ 1387440 w 1778400"/>
                <a:gd name="textAreaTop" fmla="*/ 169200 h 769680"/>
                <a:gd name="textAreaBottom" fmla="*/ 600480 h 769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Биологически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етод основан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На использовани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_s239626"/>
            <p:cNvSpPr/>
            <p:nvPr/>
          </p:nvSpPr>
          <p:spPr>
            <a:xfrm flipV="1">
              <a:off x="3672360" y="2328480"/>
              <a:ext cx="2667240" cy="770040"/>
            </a:xfrm>
            <a:custGeom>
              <a:avLst/>
              <a:gdLst>
                <a:gd name="textAreaLeft" fmla="*/ 462960 w 2667240"/>
                <a:gd name="textAreaRight" fmla="*/ 2204280 w 2667240"/>
                <a:gd name="textAreaTop" fmla="*/ 133560 h 770040"/>
                <a:gd name="textAreaBottom" fmla="*/ 636480 h 7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Энтомофагов и паразито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вредителе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_s239627"/>
            <p:cNvSpPr/>
            <p:nvPr/>
          </p:nvSpPr>
          <p:spPr>
            <a:xfrm flipV="1">
              <a:off x="3227760" y="3098520"/>
              <a:ext cx="3555720" cy="770040"/>
            </a:xfrm>
            <a:custGeom>
              <a:avLst/>
              <a:gdLst>
                <a:gd name="textAreaLeft" fmla="*/ 534960 w 3555720"/>
                <a:gd name="textAreaRight" fmla="*/ 3020760 w 3555720"/>
                <a:gd name="textAreaTop" fmla="*/ 115560 h 770040"/>
                <a:gd name="textAreaBottom" fmla="*/ 654480 h 7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Хищных и насекомоядных птиц и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лекопитающих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_s239628"/>
            <p:cNvSpPr/>
            <p:nvPr/>
          </p:nvSpPr>
          <p:spPr>
            <a:xfrm flipV="1">
              <a:off x="2783880" y="3868920"/>
              <a:ext cx="4444200" cy="771480"/>
            </a:xfrm>
            <a:custGeom>
              <a:avLst/>
              <a:gdLst>
                <a:gd name="textAreaLeft" fmla="*/ 606960 w 4444200"/>
                <a:gd name="textAreaRight" fmla="*/ 3837240 w 4444200"/>
                <a:gd name="textAreaTop" fmla="*/ 105120 h 771480"/>
                <a:gd name="textAreaBottom" fmla="*/ 666360 h 771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Микробов и вирусов- возбудителей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Болезней вредителей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_s239629"/>
            <p:cNvSpPr/>
            <p:nvPr/>
          </p:nvSpPr>
          <p:spPr>
            <a:xfrm flipV="1">
              <a:off x="2339280" y="4640760"/>
              <a:ext cx="5333040" cy="770040"/>
            </a:xfrm>
            <a:custGeom>
              <a:avLst/>
              <a:gdLst>
                <a:gd name="textAreaLeft" fmla="*/ 678960 w 5333040"/>
                <a:gd name="textAreaRight" fmla="*/ 4654080 w 5333040"/>
                <a:gd name="textAreaTop" fmla="*/ 97920 h 770040"/>
                <a:gd name="textAreaBottom" fmla="*/ 672120 h 77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800" y="21600"/>
                  </a:lnTo>
                  <a:lnTo>
                    <a:pt x="1800" y="21600"/>
                  </a:lnTo>
                  <a:close/>
                </a:path>
              </a:pathLst>
            </a:custGeom>
            <a:solidFill>
              <a:srgbClr val="33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Синтетических аналогов биологически активных веществ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heel spokes="8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14:00:40Z</dcterms:created>
  <dc:creator>Admin</dc:creator>
  <dc:description/>
  <dc:language>en-US</dc:language>
  <cp:lastModifiedBy>Admin</cp:lastModifiedBy>
  <dcterms:modified xsi:type="dcterms:W3CDTF">2009-10-13T15:02:46Z</dcterms:modified>
  <cp:revision>4</cp:revision>
  <dc:subject/>
  <dc:title>Применение пестицидов ведет к</dc:title>
</cp:coreProperties>
</file>